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EFA6-49D8-48DA-938C-71C3B4C85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1168-F039-4024-B4BE-F5834BEF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E4D2-71C4-49D1-BD17-8C81E4B9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4A5A-4D93-4892-929C-5054110B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EFD4-BD54-4D29-B1AD-84107C7A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CE45-B406-4F92-98D5-91A3459E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4EA9-9705-4042-A950-5F63ED23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01A9-1D03-4A78-B62A-CD3E34AE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6A8F-EF99-41DB-9218-543E5D48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1DF7-8053-4629-ABDE-885B56CC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04A9-3DEF-4063-BCAB-48FB7BB7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A224-DCEE-4C4C-9EB5-9FE9C08F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2835-E178-4D77-9962-98905ED2D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0120" y="237960"/>
            <a:ext cx="6243480" cy="6243840"/>
            <a:chOff x="600120" y="237960"/>
            <a:chExt cx="6243480" cy="6243840"/>
          </a:xfrm>
        </p:grpSpPr>
        <p:sp>
          <p:nvSpPr>
            <p:cNvPr id="42" name=""/>
            <p:cNvSpPr/>
            <p:nvPr/>
          </p:nvSpPr>
          <p:spPr>
            <a:xfrm>
              <a:off x="600120" y="237960"/>
              <a:ext cx="6243480" cy="62438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26840" y="365040"/>
              <a:ext cx="5989680" cy="598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15920" y="655560"/>
              <a:ext cx="5410080" cy="54100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105160" y="3016080"/>
              <a:ext cx="6098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21040" y="2597040"/>
              <a:ext cx="160020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20:23:04Z</dcterms:created>
  <dc:creator>Alexandre.Tremblot</dc:creator>
  <dc:description/>
  <dc:language>en-US</dc:language>
  <cp:lastModifiedBy>Alexandre.Tremblot</cp:lastModifiedBy>
  <dcterms:modified xsi:type="dcterms:W3CDTF">2003-03-27T20:23:22Z</dcterms:modified>
  <cp:revision>1</cp:revision>
  <dc:subject/>
  <dc:title>PowerPoint Presentation</dc:title>
</cp:coreProperties>
</file>