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58400" cy="15544800"/>
  <p:notesSz cx="9144000" cy="1478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0C8-3C6A-4E50-AD85-B5AD7524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855000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9362160"/>
            <a:ext cx="855000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430-B61E-4790-ACA6-A9DFEFA3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936216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936216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658-C995-421F-8F94-B4E7633C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449064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449064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936216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936216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9362160"/>
            <a:ext cx="275292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955-CF2B-4B6F-9A6B-24BA6577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4490640"/>
            <a:ext cx="8550000" cy="932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AB3-BD8B-4D8D-BEF6-2DB9950A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855000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1C7-4D57-44C8-AB56-022389BB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BB4-E81C-4A5C-947E-4A65353F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811-1088-4B59-8F4D-CAD0CBAD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1380600"/>
            <a:ext cx="8550000" cy="12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76"/>
              </a:spcBef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996-3396-4BEE-BEE6-329A2A6C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936216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821-E7D2-4BEC-B6CE-C9C39CD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936216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285-7014-4290-93FD-0C577B5C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4490640"/>
            <a:ext cx="417204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9362160"/>
            <a:ext cx="8550000" cy="4448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5C6-D649-4D9C-A3CA-F1FF4B76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1380600"/>
            <a:ext cx="8550000" cy="25909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4490640"/>
            <a:ext cx="8550000" cy="93265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 fontScale="98000"/>
          </a:bodyPr>
          <a:p>
            <a:pPr marL="538200" indent="-53820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4960" indent="-447840">
              <a:spcBef>
                <a:spcPts val="1276"/>
              </a:spcBef>
              <a:buClr>
                <a:srgbClr val="000000"/>
              </a:buClr>
              <a:buFont typeface="Times New Roman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2" marL="1792080" indent="-357480">
              <a:spcBef>
                <a:spcPts val="1276"/>
              </a:spcBef>
              <a:buClr>
                <a:srgbClr val="000000"/>
              </a:buClr>
              <a:buFont typeface="Times New Roman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3" marL="2509200" indent="-359280">
              <a:spcBef>
                <a:spcPts val="1276"/>
              </a:spcBef>
              <a:buClr>
                <a:srgbClr val="000000"/>
              </a:buClr>
              <a:buFont typeface="Times New Roman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6680" indent="-359280">
              <a:spcBef>
                <a:spcPts val="1276"/>
              </a:spcBef>
              <a:buClr>
                <a:srgbClr val="000000"/>
              </a:buClr>
              <a:buFont typeface="Times New Roman"/>
              <a:buChar char="»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6680" indent="-359280">
              <a:spcBef>
                <a:spcPts val="1276"/>
              </a:spcBef>
              <a:buClr>
                <a:srgbClr val="000000"/>
              </a:buClr>
              <a:buFont typeface="Times New Roman"/>
              <a:buChar char="»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6680" indent="-359280">
              <a:spcBef>
                <a:spcPts val="1276"/>
              </a:spcBef>
              <a:buClr>
                <a:srgbClr val="000000"/>
              </a:buClr>
              <a:buFont typeface="Times New Roman"/>
              <a:buChar char="»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14163480"/>
            <a:ext cx="2095200" cy="10350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14163480"/>
            <a:ext cx="3184560" cy="10350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14163480"/>
            <a:ext cx="2095200" cy="10350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fld id="{99361D48-70A8-42F7-B467-FC8A275462B7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60" y="3803760"/>
            <a:ext cx="10040760" cy="10040760"/>
            <a:chOff x="-9360" y="3803760"/>
            <a:chExt cx="10040760" cy="10040760"/>
          </a:xfrm>
        </p:grpSpPr>
        <p:sp>
          <p:nvSpPr>
            <p:cNvPr id="42" name=""/>
            <p:cNvSpPr/>
            <p:nvPr/>
          </p:nvSpPr>
          <p:spPr>
            <a:xfrm>
              <a:off x="-9360" y="3803760"/>
              <a:ext cx="10040760" cy="1004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57200" y="5171760"/>
              <a:ext cx="7305840" cy="730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90840" y="6305400"/>
              <a:ext cx="5038560" cy="5038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81200" y="7294320"/>
              <a:ext cx="3059280" cy="305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37200" y="8049960"/>
              <a:ext cx="1547640" cy="15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9360" y="8367480"/>
              <a:ext cx="6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81320" y="86245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65920" y="862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13520" y="862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1320" y="862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36800" y="862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95320" y="86263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27880" y="862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920" y="862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57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19200" y="1758960"/>
            <a:ext cx="3894120" cy="3894120"/>
            <a:chOff x="619200" y="1758960"/>
            <a:chExt cx="3894120" cy="3894120"/>
          </a:xfrm>
        </p:grpSpPr>
        <p:sp>
          <p:nvSpPr>
            <p:cNvPr id="70" name=""/>
            <p:cNvSpPr/>
            <p:nvPr/>
          </p:nvSpPr>
          <p:spPr>
            <a:xfrm>
              <a:off x="619200" y="175896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49480" y="228924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89040" y="272880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73160" y="311328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65480" y="340524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70240" y="3479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880" y="3570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1264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08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2508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5060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32480" y="3570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3028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412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667480" y="6356520"/>
            <a:ext cx="3894120" cy="3894120"/>
            <a:chOff x="5667480" y="6356520"/>
            <a:chExt cx="3894120" cy="3894120"/>
          </a:xfrm>
        </p:grpSpPr>
        <p:sp>
          <p:nvSpPr>
            <p:cNvPr id="85" name=""/>
            <p:cNvSpPr/>
            <p:nvPr/>
          </p:nvSpPr>
          <p:spPr>
            <a:xfrm>
              <a:off x="5667480" y="635652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97760" y="688680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37320" y="732636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21440" y="771084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13760" y="800280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18520" y="8077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68160" y="8168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092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6736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7336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9888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0760" y="8168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7856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240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19200" y="6356520"/>
            <a:ext cx="3894120" cy="3894120"/>
            <a:chOff x="619200" y="6356520"/>
            <a:chExt cx="3894120" cy="3894120"/>
          </a:xfrm>
        </p:grpSpPr>
        <p:sp>
          <p:nvSpPr>
            <p:cNvPr id="100" name=""/>
            <p:cNvSpPr/>
            <p:nvPr/>
          </p:nvSpPr>
          <p:spPr>
            <a:xfrm>
              <a:off x="619200" y="635652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9480" y="688680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89040" y="732636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73160" y="771084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5480" y="800280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70240" y="8077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9880" y="8168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1264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908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2508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5060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2480" y="8168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3028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120" y="8168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667480" y="1758960"/>
            <a:ext cx="3894120" cy="3894120"/>
            <a:chOff x="5667480" y="1758960"/>
            <a:chExt cx="3894120" cy="3894120"/>
          </a:xfrm>
        </p:grpSpPr>
        <p:sp>
          <p:nvSpPr>
            <p:cNvPr id="115" name=""/>
            <p:cNvSpPr/>
            <p:nvPr/>
          </p:nvSpPr>
          <p:spPr>
            <a:xfrm>
              <a:off x="5667480" y="175896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97760" y="228924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37320" y="272880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11328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3760" y="340524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3479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68160" y="3570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6092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6736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336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888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80760" y="3570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7856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92400" y="3570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684760" y="10953720"/>
            <a:ext cx="3894120" cy="3894120"/>
            <a:chOff x="5684760" y="10953720"/>
            <a:chExt cx="3894120" cy="3894120"/>
          </a:xfrm>
        </p:grpSpPr>
        <p:sp>
          <p:nvSpPr>
            <p:cNvPr id="130" name=""/>
            <p:cNvSpPr/>
            <p:nvPr/>
          </p:nvSpPr>
          <p:spPr>
            <a:xfrm>
              <a:off x="5684760" y="1095372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15040" y="1148400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54600" y="1192356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38720" y="1230804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31040" y="1260000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35800" y="1267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85440" y="12765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7820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464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064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616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98040" y="12765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9584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0968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36480" y="10953720"/>
            <a:ext cx="3894120" cy="3894120"/>
            <a:chOff x="636480" y="10953720"/>
            <a:chExt cx="3894120" cy="3894120"/>
          </a:xfrm>
        </p:grpSpPr>
        <p:sp>
          <p:nvSpPr>
            <p:cNvPr id="145" name=""/>
            <p:cNvSpPr/>
            <p:nvPr/>
          </p:nvSpPr>
          <p:spPr>
            <a:xfrm>
              <a:off x="636480" y="1095372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66760" y="1148400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6320" y="1192356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0440" y="1230804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2760" y="1260000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87520" y="1267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37160" y="12765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2992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3636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4236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88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49760" y="12765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756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1400" y="12765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160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619200" y="2314440"/>
            <a:ext cx="3894120" cy="3894120"/>
            <a:chOff x="619200" y="2314440"/>
            <a:chExt cx="3894120" cy="3894120"/>
          </a:xfrm>
        </p:grpSpPr>
        <p:sp>
          <p:nvSpPr>
            <p:cNvPr id="173" name=""/>
            <p:cNvSpPr/>
            <p:nvPr/>
          </p:nvSpPr>
          <p:spPr>
            <a:xfrm>
              <a:off x="619200" y="231444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9480" y="284472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89040" y="328428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73160" y="366876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65480" y="396072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70240" y="4035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9880" y="41259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1264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1908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2508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5060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32480" y="41259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3028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412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076560" y="6499080"/>
            <a:ext cx="3894120" cy="3894120"/>
            <a:chOff x="3076560" y="6499080"/>
            <a:chExt cx="3894120" cy="3894120"/>
          </a:xfrm>
        </p:grpSpPr>
        <p:sp>
          <p:nvSpPr>
            <p:cNvPr id="188" name=""/>
            <p:cNvSpPr/>
            <p:nvPr/>
          </p:nvSpPr>
          <p:spPr>
            <a:xfrm>
              <a:off x="3076560" y="649908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06840" y="702936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46400" y="746892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30520" y="785340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22840" y="814536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8219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77240" y="83106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70000" y="831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76440" y="831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82440" y="831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07960" y="831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9840" y="83106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7640" y="831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01480" y="831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67480" y="2314440"/>
            <a:ext cx="3894120" cy="3894120"/>
            <a:chOff x="5667480" y="2314440"/>
            <a:chExt cx="3894120" cy="3894120"/>
          </a:xfrm>
        </p:grpSpPr>
        <p:sp>
          <p:nvSpPr>
            <p:cNvPr id="203" name=""/>
            <p:cNvSpPr/>
            <p:nvPr/>
          </p:nvSpPr>
          <p:spPr>
            <a:xfrm>
              <a:off x="5667480" y="231444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97760" y="284472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37320" y="328428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21440" y="366876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3760" y="396072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18520" y="4035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68160" y="41259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6092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6736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7336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9888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80760" y="41259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7856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2400" y="4125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684760" y="10710720"/>
            <a:ext cx="3894120" cy="3894120"/>
            <a:chOff x="5684760" y="10710720"/>
            <a:chExt cx="3894120" cy="3894120"/>
          </a:xfrm>
        </p:grpSpPr>
        <p:sp>
          <p:nvSpPr>
            <p:cNvPr id="218" name=""/>
            <p:cNvSpPr/>
            <p:nvPr/>
          </p:nvSpPr>
          <p:spPr>
            <a:xfrm>
              <a:off x="5684760" y="1071072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15040" y="1124100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54600" y="1168056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8720" y="1206504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31040" y="1235700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35800" y="12431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85440" y="12522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7820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8464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9064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1616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98040" y="12522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9584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0968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36480" y="10710720"/>
            <a:ext cx="3894120" cy="3894120"/>
            <a:chOff x="636480" y="10710720"/>
            <a:chExt cx="3894120" cy="3894120"/>
          </a:xfrm>
        </p:grpSpPr>
        <p:sp>
          <p:nvSpPr>
            <p:cNvPr id="233" name=""/>
            <p:cNvSpPr/>
            <p:nvPr/>
          </p:nvSpPr>
          <p:spPr>
            <a:xfrm>
              <a:off x="636480" y="10710720"/>
              <a:ext cx="3894120" cy="389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66760" y="11241000"/>
              <a:ext cx="2833560" cy="28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06320" y="11680560"/>
              <a:ext cx="1954440" cy="195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90440" y="12065040"/>
              <a:ext cx="1185840" cy="1185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2760" y="12357000"/>
              <a:ext cx="601560" cy="601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7520" y="12431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7160" y="12522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2992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3636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4236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6788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9760" y="12522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756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1400" y="12522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248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434600" y="2341080"/>
            <a:ext cx="7356960" cy="12208320"/>
            <a:chOff x="1434600" y="2341080"/>
            <a:chExt cx="7356960" cy="12208320"/>
          </a:xfrm>
        </p:grpSpPr>
        <p:sp>
          <p:nvSpPr>
            <p:cNvPr id="261" name=""/>
            <p:cNvSpPr/>
            <p:nvPr/>
          </p:nvSpPr>
          <p:spPr>
            <a:xfrm>
              <a:off x="3695760" y="2357280"/>
              <a:ext cx="276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78560" y="2341080"/>
              <a:ext cx="0" cy="238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8560" y="4730760"/>
              <a:ext cx="138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7160" y="4714920"/>
              <a:ext cx="914400" cy="13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691080" y="2356920"/>
              <a:ext cx="0" cy="238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03640" y="4751280"/>
              <a:ext cx="138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91560" y="6058080"/>
              <a:ext cx="0" cy="639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642080" y="12453480"/>
              <a:ext cx="1149480" cy="209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31960" y="14549400"/>
              <a:ext cx="501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34960" y="12406320"/>
              <a:ext cx="1197000" cy="214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34960" y="6087960"/>
              <a:ext cx="0" cy="63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434600" y="4746600"/>
              <a:ext cx="868680" cy="134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71680" y="4896000"/>
              <a:ext cx="549108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860640" y="2498760"/>
              <a:ext cx="7920" cy="23893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286680" y="2514600"/>
              <a:ext cx="7920" cy="23893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60640" y="2514600"/>
              <a:ext cx="2426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98840" y="6135840"/>
              <a:ext cx="3173400" cy="317484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4600" y="4903920"/>
              <a:ext cx="1220760" cy="1231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515360" y="6135840"/>
              <a:ext cx="0" cy="39081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862760" y="4903920"/>
              <a:ext cx="795600" cy="126360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360" y="6167520"/>
              <a:ext cx="0" cy="62704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570800" y="12453840"/>
              <a:ext cx="1087560" cy="192240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68560" y="12028320"/>
              <a:ext cx="242604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94600" y="10044000"/>
              <a:ext cx="1220760" cy="19843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31960" y="10044000"/>
              <a:ext cx="1236600" cy="19843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631960" y="6135840"/>
              <a:ext cx="0" cy="39081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631960" y="4888080"/>
              <a:ext cx="1228680" cy="12477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576440" y="4903920"/>
              <a:ext cx="795240" cy="117000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576440" y="6073920"/>
              <a:ext cx="0" cy="62704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3200" y="14376240"/>
              <a:ext cx="482760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08120" y="12406320"/>
              <a:ext cx="1135080" cy="1969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09520" y="10285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82040" y="8370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5440" y="84344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70000" y="73627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09520" y="5195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54880" y="32814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299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653760" y="2371680"/>
            <a:ext cx="3578400" cy="5937120"/>
            <a:chOff x="653760" y="2371680"/>
            <a:chExt cx="3578400" cy="5937120"/>
          </a:xfrm>
        </p:grpSpPr>
        <p:sp>
          <p:nvSpPr>
            <p:cNvPr id="312" name=""/>
            <p:cNvSpPr/>
            <p:nvPr/>
          </p:nvSpPr>
          <p:spPr>
            <a:xfrm>
              <a:off x="1754280" y="237960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06800" y="2371680"/>
              <a:ext cx="0" cy="11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06800" y="353376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87920" y="3525840"/>
              <a:ext cx="444240" cy="66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751040" y="2379600"/>
              <a:ext cx="0" cy="11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76400" y="354492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2160" y="417816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673440" y="7289280"/>
              <a:ext cx="55872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36600" y="8308800"/>
              <a:ext cx="243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4120" y="7267680"/>
              <a:ext cx="582480" cy="10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4120" y="4194000"/>
              <a:ext cx="0" cy="307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3760" y="3541680"/>
              <a:ext cx="42228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9520" y="3614760"/>
              <a:ext cx="267048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833120" y="2448000"/>
              <a:ext cx="468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14280" y="2455920"/>
              <a:ext cx="324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3480" y="2455920"/>
              <a:ext cx="1181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57440" y="4216320"/>
              <a:ext cx="1544400" cy="154476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7880" y="3618000"/>
              <a:ext cx="593640" cy="5983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611520" y="4215960"/>
              <a:ext cx="0" cy="19018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780000" y="3618000"/>
              <a:ext cx="387360" cy="6141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67360" y="423180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638520" y="7289640"/>
              <a:ext cx="528840" cy="9352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38160" y="7083360"/>
              <a:ext cx="11797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017880" y="6117840"/>
              <a:ext cx="593640" cy="9651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36600" y="6118200"/>
              <a:ext cx="601560" cy="9651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236600" y="4215960"/>
              <a:ext cx="0" cy="19018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236600" y="3610080"/>
              <a:ext cx="596880" cy="606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22160" y="3618000"/>
              <a:ext cx="387360" cy="568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22160" y="4186080"/>
              <a:ext cx="0" cy="3049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90600" y="8224920"/>
              <a:ext cx="23479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8360" y="7267680"/>
              <a:ext cx="552240" cy="957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48200" y="6235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94320" y="5303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6120" y="5334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78440" y="481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48200" y="3759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70160" y="2828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893920" y="2371320"/>
            <a:ext cx="3578400" cy="5937480"/>
            <a:chOff x="5893920" y="2371320"/>
            <a:chExt cx="3578400" cy="5937480"/>
          </a:xfrm>
        </p:grpSpPr>
        <p:sp>
          <p:nvSpPr>
            <p:cNvPr id="350" name=""/>
            <p:cNvSpPr/>
            <p:nvPr/>
          </p:nvSpPr>
          <p:spPr>
            <a:xfrm>
              <a:off x="6994440" y="237960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8346960" y="237132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46960" y="35334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27720" y="3525480"/>
              <a:ext cx="44460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991200" y="237924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6560" y="354456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472320" y="417816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913600" y="7289280"/>
              <a:ext cx="55872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76760" y="8308800"/>
              <a:ext cx="243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94280" y="7267320"/>
              <a:ext cx="58248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94280" y="4194000"/>
              <a:ext cx="0" cy="30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893920" y="3541320"/>
              <a:ext cx="422280" cy="6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9680" y="3614400"/>
              <a:ext cx="26701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73280" y="2447640"/>
              <a:ext cx="468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254440" y="2455560"/>
              <a:ext cx="324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73640" y="2455560"/>
              <a:ext cx="1181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97600" y="4216320"/>
              <a:ext cx="1544400" cy="15444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8040" y="3617640"/>
              <a:ext cx="593640" cy="5986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851680" y="421632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9019800" y="3617280"/>
              <a:ext cx="387360" cy="614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9407160" y="423180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8878680" y="7289280"/>
              <a:ext cx="528480" cy="934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78320" y="7083360"/>
              <a:ext cx="11797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58040" y="6117840"/>
              <a:ext cx="59364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76760" y="6117840"/>
              <a:ext cx="60156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476760" y="421632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476760" y="3609360"/>
              <a:ext cx="596880" cy="60660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962320" y="3617280"/>
              <a:ext cx="387360" cy="5684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62320" y="418572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30760" y="8224560"/>
              <a:ext cx="23479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78160" y="7267320"/>
              <a:ext cx="552600" cy="957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8360" y="6235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934480" y="53035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56280" y="53337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8240" y="481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88360" y="3759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10320" y="2828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3760" y="9140400"/>
            <a:ext cx="3578400" cy="5937480"/>
            <a:chOff x="653760" y="9140400"/>
            <a:chExt cx="3578400" cy="5937480"/>
          </a:xfrm>
        </p:grpSpPr>
        <p:sp>
          <p:nvSpPr>
            <p:cNvPr id="388" name=""/>
            <p:cNvSpPr/>
            <p:nvPr/>
          </p:nvSpPr>
          <p:spPr>
            <a:xfrm>
              <a:off x="1754280" y="914868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106800" y="914040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06800" y="103024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87560" y="10294560"/>
              <a:ext cx="44460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1751040" y="914832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76400" y="1031364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32160" y="1094724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673440" y="14058360"/>
              <a:ext cx="55872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6600" y="15077880"/>
              <a:ext cx="243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4120" y="14036400"/>
              <a:ext cx="58248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4120" y="10963080"/>
              <a:ext cx="0" cy="30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53760" y="10310400"/>
              <a:ext cx="422280" cy="6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09520" y="10383480"/>
              <a:ext cx="26701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833120" y="9216720"/>
              <a:ext cx="468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014280" y="9224640"/>
              <a:ext cx="324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3480" y="9224640"/>
              <a:ext cx="1181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57440" y="10985400"/>
              <a:ext cx="1544400" cy="15444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17880" y="10386720"/>
              <a:ext cx="593640" cy="5986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611520" y="1098540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779640" y="10386360"/>
              <a:ext cx="387360" cy="614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167000" y="1100088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638520" y="14058360"/>
              <a:ext cx="528480" cy="934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8160" y="13852440"/>
              <a:ext cx="11797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017880" y="12886920"/>
              <a:ext cx="59364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600" y="12886920"/>
              <a:ext cx="60156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1236600" y="1098540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236600" y="10378440"/>
              <a:ext cx="596880" cy="60660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22160" y="10386360"/>
              <a:ext cx="387360" cy="5684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22160" y="1095480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90600" y="14993640"/>
              <a:ext cx="23479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8000" y="14036400"/>
              <a:ext cx="552600" cy="957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48200" y="130046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94320" y="12072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6120" y="121028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11582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48200" y="10528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70160" y="9597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893920" y="9140400"/>
            <a:ext cx="3578400" cy="5937480"/>
            <a:chOff x="5893920" y="9140400"/>
            <a:chExt cx="3578400" cy="5937480"/>
          </a:xfrm>
        </p:grpSpPr>
        <p:sp>
          <p:nvSpPr>
            <p:cNvPr id="426" name=""/>
            <p:cNvSpPr/>
            <p:nvPr/>
          </p:nvSpPr>
          <p:spPr>
            <a:xfrm>
              <a:off x="6994440" y="914868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8346960" y="914040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46960" y="103024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27720" y="10294560"/>
              <a:ext cx="44460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991200" y="914832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16560" y="1031364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472320" y="1094724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8913600" y="14058360"/>
              <a:ext cx="55872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6760" y="15077880"/>
              <a:ext cx="243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94280" y="14036400"/>
              <a:ext cx="58248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94280" y="10963080"/>
              <a:ext cx="0" cy="30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5893920" y="10310400"/>
              <a:ext cx="422280" cy="6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49680" y="10383480"/>
              <a:ext cx="26701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73280" y="9216720"/>
              <a:ext cx="468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254440" y="9224640"/>
              <a:ext cx="324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73640" y="9224640"/>
              <a:ext cx="1181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97600" y="10985400"/>
              <a:ext cx="1544400" cy="15444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58040" y="10386720"/>
              <a:ext cx="593640" cy="5986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8851680" y="1098540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9019800" y="10386360"/>
              <a:ext cx="387360" cy="614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9407160" y="1100088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878680" y="14058360"/>
              <a:ext cx="528480" cy="934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78320" y="13852440"/>
              <a:ext cx="11797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58040" y="12886920"/>
              <a:ext cx="59364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6760" y="12886920"/>
              <a:ext cx="60156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476760" y="1098540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76760" y="10378440"/>
              <a:ext cx="596880" cy="60660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962320" y="10386360"/>
              <a:ext cx="387360" cy="5684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962320" y="1095480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30760" y="14993640"/>
              <a:ext cx="23479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78160" y="14036400"/>
              <a:ext cx="552600" cy="957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8360" y="130046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4480" y="12072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56280" y="121028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18240" y="11582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8360" y="10528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0320" y="9597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464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628200" y="1847880"/>
            <a:ext cx="8811000" cy="5952960"/>
            <a:chOff x="628200" y="1847880"/>
            <a:chExt cx="8811000" cy="5952960"/>
          </a:xfrm>
        </p:grpSpPr>
        <p:grpSp>
          <p:nvGrpSpPr>
            <p:cNvPr id="477" name=""/>
            <p:cNvGrpSpPr/>
            <p:nvPr/>
          </p:nvGrpSpPr>
          <p:grpSpPr>
            <a:xfrm>
              <a:off x="3242880" y="1847880"/>
              <a:ext cx="3578760" cy="5937120"/>
              <a:chOff x="3242880" y="1847880"/>
              <a:chExt cx="3578760" cy="5937120"/>
            </a:xfrm>
          </p:grpSpPr>
          <p:sp>
            <p:nvSpPr>
              <p:cNvPr id="478" name=""/>
              <p:cNvSpPr/>
              <p:nvPr/>
            </p:nvSpPr>
            <p:spPr>
              <a:xfrm>
                <a:off x="4343400" y="1855800"/>
                <a:ext cx="13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695920" y="1847880"/>
                <a:ext cx="0" cy="11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695920" y="3009960"/>
                <a:ext cx="67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77040" y="3002040"/>
                <a:ext cx="444600" cy="66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340160" y="1855800"/>
                <a:ext cx="0" cy="11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65520" y="3021120"/>
                <a:ext cx="67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821640" y="3654360"/>
                <a:ext cx="0" cy="311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262560" y="6765480"/>
                <a:ext cx="559080" cy="101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25720" y="7785000"/>
                <a:ext cx="243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43240" y="6743880"/>
                <a:ext cx="582480" cy="10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43240" y="3670200"/>
                <a:ext cx="0" cy="307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242880" y="3017880"/>
                <a:ext cx="422280" cy="65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99000" y="3090960"/>
                <a:ext cx="26701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4422600" y="1924200"/>
                <a:ext cx="5040" cy="1162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603400" y="1932120"/>
                <a:ext cx="3240" cy="1162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22600" y="1932120"/>
                <a:ext cx="11811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46560" y="3692520"/>
                <a:ext cx="1544760" cy="1544760"/>
              </a:xfrm>
              <a:prstGeom prst="ellipse">
                <a:avLst/>
              </a:prstGeom>
              <a:noFill/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07000" y="3094200"/>
                <a:ext cx="593640" cy="59832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200640" y="3692160"/>
                <a:ext cx="0" cy="1901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6369120" y="3094200"/>
                <a:ext cx="387360" cy="614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756480" y="3708000"/>
                <a:ext cx="0" cy="30495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227640" y="6765840"/>
                <a:ext cx="528840" cy="935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427640" y="6559560"/>
                <a:ext cx="1179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607000" y="5594040"/>
                <a:ext cx="593640" cy="965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25720" y="5594400"/>
                <a:ext cx="601920" cy="965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3825720" y="3692160"/>
                <a:ext cx="0" cy="1901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3825720" y="3086280"/>
                <a:ext cx="596880" cy="60624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3311640" y="3094200"/>
                <a:ext cx="387360" cy="568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311640" y="3661920"/>
                <a:ext cx="0" cy="30495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79720" y="7701120"/>
                <a:ext cx="23479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27480" y="6743880"/>
                <a:ext cx="552240" cy="95724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37320" y="57117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83440" y="47800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05240" y="48099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67560" y="42894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837320" y="32353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59640" y="23050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664080" y="3017880"/>
              <a:ext cx="2604960" cy="476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4280" y="3002040"/>
              <a:ext cx="2544840" cy="478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28200" y="1863720"/>
              <a:ext cx="3578400" cy="5937120"/>
              <a:chOff x="628200" y="1863720"/>
              <a:chExt cx="3578400" cy="5937120"/>
            </a:xfrm>
          </p:grpSpPr>
          <p:sp>
            <p:nvSpPr>
              <p:cNvPr id="518" name=""/>
              <p:cNvSpPr/>
              <p:nvPr/>
            </p:nvSpPr>
            <p:spPr>
              <a:xfrm>
                <a:off x="1728720" y="1871640"/>
                <a:ext cx="13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081240" y="186372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81240" y="302580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62360" y="3017880"/>
                <a:ext cx="44424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725480" y="187164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050840" y="303696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206600" y="3670200"/>
                <a:ext cx="0" cy="311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647880" y="6781320"/>
                <a:ext cx="558720" cy="10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211040" y="7800840"/>
                <a:ext cx="24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8560" y="6759720"/>
                <a:ext cx="582480" cy="10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8560" y="3686040"/>
                <a:ext cx="0" cy="307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628200" y="3033720"/>
                <a:ext cx="422280" cy="6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83960" y="3106800"/>
                <a:ext cx="26704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1807560" y="1940040"/>
                <a:ext cx="468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2988720" y="1947960"/>
                <a:ext cx="324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807920" y="1947960"/>
                <a:ext cx="11811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631880" y="3708360"/>
                <a:ext cx="1544400" cy="154476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92320" y="3110040"/>
                <a:ext cx="593640" cy="5983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3585960" y="370800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3754440" y="3110040"/>
                <a:ext cx="387360" cy="614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4141800" y="3723840"/>
                <a:ext cx="0" cy="30495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3612960" y="6781680"/>
                <a:ext cx="528840" cy="9352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12600" y="6575400"/>
                <a:ext cx="11797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2992320" y="5609880"/>
                <a:ext cx="59364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1040" y="5610240"/>
                <a:ext cx="60156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1211040" y="370800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1211040" y="3102120"/>
                <a:ext cx="596880" cy="606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696600" y="3110040"/>
                <a:ext cx="387360" cy="568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96600" y="3678120"/>
                <a:ext cx="0" cy="30499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265040" y="7716960"/>
                <a:ext cx="23479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12800" y="6759720"/>
                <a:ext cx="552240" cy="957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222640" y="57276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668760" y="47959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90560" y="48261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52880" y="43052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222640" y="32511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44600" y="23209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860800" y="1851120"/>
              <a:ext cx="3578400" cy="5937120"/>
              <a:chOff x="5860800" y="1851120"/>
              <a:chExt cx="3578400" cy="5937120"/>
            </a:xfrm>
          </p:grpSpPr>
          <p:sp>
            <p:nvSpPr>
              <p:cNvPr id="556" name=""/>
              <p:cNvSpPr/>
              <p:nvPr/>
            </p:nvSpPr>
            <p:spPr>
              <a:xfrm>
                <a:off x="6961320" y="1859040"/>
                <a:ext cx="13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13840" y="185112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313840" y="301320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994960" y="3005280"/>
                <a:ext cx="44424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958080" y="185904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83440" y="302436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9439200" y="3657600"/>
                <a:ext cx="0" cy="311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8880480" y="6768720"/>
                <a:ext cx="558720" cy="10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43640" y="7788240"/>
                <a:ext cx="24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1160" y="6747120"/>
                <a:ext cx="582480" cy="10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61160" y="3673440"/>
                <a:ext cx="0" cy="307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5860800" y="3021120"/>
                <a:ext cx="422280" cy="6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16560" y="3094200"/>
                <a:ext cx="26704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7040160" y="1927440"/>
                <a:ext cx="468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8221320" y="1935360"/>
                <a:ext cx="324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40520" y="1935360"/>
                <a:ext cx="11811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864480" y="3695760"/>
                <a:ext cx="1544400" cy="154476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224920" y="3097440"/>
                <a:ext cx="593640" cy="5983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8818560" y="369540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987040" y="3097440"/>
                <a:ext cx="387360" cy="614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9374400" y="3711240"/>
                <a:ext cx="0" cy="30495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8845560" y="6769080"/>
                <a:ext cx="528840" cy="9352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45200" y="6562800"/>
                <a:ext cx="11797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224920" y="5597280"/>
                <a:ext cx="59364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43640" y="5597640"/>
                <a:ext cx="60156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6443640" y="369540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443640" y="3089520"/>
                <a:ext cx="596880" cy="606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929200" y="3097440"/>
                <a:ext cx="387360" cy="568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929200" y="3665520"/>
                <a:ext cx="0" cy="30499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97640" y="7704360"/>
                <a:ext cx="23479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945400" y="6747120"/>
                <a:ext cx="552240" cy="957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55240" y="57150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901360" y="47833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023160" y="48135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85480" y="42926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455240" y="32385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477200" y="23083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723600" y="8991720"/>
            <a:ext cx="8811000" cy="5952960"/>
            <a:chOff x="723600" y="8991720"/>
            <a:chExt cx="8811000" cy="5952960"/>
          </a:xfrm>
        </p:grpSpPr>
        <p:grpSp>
          <p:nvGrpSpPr>
            <p:cNvPr id="594" name=""/>
            <p:cNvGrpSpPr/>
            <p:nvPr/>
          </p:nvGrpSpPr>
          <p:grpSpPr>
            <a:xfrm>
              <a:off x="3338280" y="8991720"/>
              <a:ext cx="3578760" cy="5937120"/>
              <a:chOff x="3338280" y="8991720"/>
              <a:chExt cx="3578760" cy="5937120"/>
            </a:xfrm>
          </p:grpSpPr>
          <p:sp>
            <p:nvSpPr>
              <p:cNvPr id="595" name=""/>
              <p:cNvSpPr/>
              <p:nvPr/>
            </p:nvSpPr>
            <p:spPr>
              <a:xfrm>
                <a:off x="4438800" y="8999640"/>
                <a:ext cx="13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791320" y="8991720"/>
                <a:ext cx="0" cy="11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91320" y="10153800"/>
                <a:ext cx="67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72440" y="10145880"/>
                <a:ext cx="444600" cy="66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435560" y="8999640"/>
                <a:ext cx="0" cy="11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60920" y="10164960"/>
                <a:ext cx="67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917040" y="10798200"/>
                <a:ext cx="0" cy="311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357960" y="13909320"/>
                <a:ext cx="559080" cy="101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921120" y="14928840"/>
                <a:ext cx="243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338640" y="13887720"/>
                <a:ext cx="582480" cy="10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38640" y="10814040"/>
                <a:ext cx="0" cy="307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338280" y="10161720"/>
                <a:ext cx="422280" cy="65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794400" y="10234800"/>
                <a:ext cx="26701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4518000" y="9068040"/>
                <a:ext cx="5040" cy="1162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698800" y="9075960"/>
                <a:ext cx="3240" cy="1162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18000" y="9075960"/>
                <a:ext cx="11811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341960" y="10836360"/>
                <a:ext cx="1544760" cy="1544760"/>
              </a:xfrm>
              <a:prstGeom prst="ellipse">
                <a:avLst/>
              </a:prstGeom>
              <a:noFill/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02400" y="10238040"/>
                <a:ext cx="593640" cy="59832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296040" y="10836000"/>
                <a:ext cx="0" cy="1901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6464520" y="10238040"/>
                <a:ext cx="387360" cy="614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6851880" y="10851840"/>
                <a:ext cx="0" cy="30495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6323040" y="13909680"/>
                <a:ext cx="528840" cy="935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23040" y="13703400"/>
                <a:ext cx="1179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702400" y="12737880"/>
                <a:ext cx="593640" cy="965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921120" y="12738240"/>
                <a:ext cx="601920" cy="965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3921120" y="10836000"/>
                <a:ext cx="0" cy="1901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3921120" y="10230120"/>
                <a:ext cx="596880" cy="60624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407040" y="10238040"/>
                <a:ext cx="387360" cy="568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407040" y="10805760"/>
                <a:ext cx="0" cy="30495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75120" y="14844960"/>
                <a:ext cx="23479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22880" y="13887720"/>
                <a:ext cx="552240" cy="95724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932720" y="128556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78840" y="119239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0640" y="11953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962960" y="114332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932720" y="103791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955040" y="94489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759480" y="10161720"/>
              <a:ext cx="2604960" cy="476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3919680" y="10145880"/>
              <a:ext cx="2544840" cy="478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23600" y="9007560"/>
              <a:ext cx="3578400" cy="5937120"/>
              <a:chOff x="723600" y="9007560"/>
              <a:chExt cx="3578400" cy="5937120"/>
            </a:xfrm>
          </p:grpSpPr>
          <p:sp>
            <p:nvSpPr>
              <p:cNvPr id="635" name=""/>
              <p:cNvSpPr/>
              <p:nvPr/>
            </p:nvSpPr>
            <p:spPr>
              <a:xfrm>
                <a:off x="1824120" y="9015480"/>
                <a:ext cx="13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176640" y="900756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176640" y="1016964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57760" y="10161720"/>
                <a:ext cx="44424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1820880" y="901548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46240" y="1018080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02000" y="10814040"/>
                <a:ext cx="0" cy="311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3743280" y="13925160"/>
                <a:ext cx="558720" cy="10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06440" y="14944680"/>
                <a:ext cx="24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23960" y="13903560"/>
                <a:ext cx="582480" cy="10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23960" y="10829880"/>
                <a:ext cx="0" cy="307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723600" y="10177560"/>
                <a:ext cx="422280" cy="6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79360" y="10250640"/>
                <a:ext cx="26704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1902960" y="9083880"/>
                <a:ext cx="468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3084120" y="9091800"/>
                <a:ext cx="324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903320" y="9091800"/>
                <a:ext cx="11811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727280" y="10852200"/>
                <a:ext cx="1544400" cy="154476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087720" y="10253880"/>
                <a:ext cx="593640" cy="5983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3681360" y="1085184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3849840" y="10253880"/>
                <a:ext cx="387360" cy="614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4237200" y="10867680"/>
                <a:ext cx="0" cy="30495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3708360" y="13925520"/>
                <a:ext cx="528840" cy="9352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908000" y="13719240"/>
                <a:ext cx="11797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3087720" y="12753720"/>
                <a:ext cx="59364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06440" y="12754080"/>
                <a:ext cx="60156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1306440" y="1085184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1306440" y="10245960"/>
                <a:ext cx="596880" cy="606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792000" y="10253880"/>
                <a:ext cx="387360" cy="568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92000" y="10821960"/>
                <a:ext cx="0" cy="30499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60440" y="14860800"/>
                <a:ext cx="23479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08200" y="13903560"/>
                <a:ext cx="552240" cy="957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318040" y="128714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764160" y="119397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85960" y="119700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48280" y="114490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18040" y="103950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40000" y="94647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956200" y="8994960"/>
              <a:ext cx="3578400" cy="5937120"/>
              <a:chOff x="5956200" y="8994960"/>
              <a:chExt cx="3578400" cy="5937120"/>
            </a:xfrm>
          </p:grpSpPr>
          <p:sp>
            <p:nvSpPr>
              <p:cNvPr id="673" name=""/>
              <p:cNvSpPr/>
              <p:nvPr/>
            </p:nvSpPr>
            <p:spPr>
              <a:xfrm>
                <a:off x="7056720" y="9002880"/>
                <a:ext cx="13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8409240" y="899496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409240" y="1015704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90360" y="10149120"/>
                <a:ext cx="44424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7053480" y="900288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378840" y="1016820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9534600" y="10801440"/>
                <a:ext cx="0" cy="311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8975880" y="13912560"/>
                <a:ext cx="558720" cy="10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539040" y="14932080"/>
                <a:ext cx="24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56560" y="13890960"/>
                <a:ext cx="582480" cy="10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56560" y="10817280"/>
                <a:ext cx="0" cy="307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5956200" y="10164960"/>
                <a:ext cx="422280" cy="6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11960" y="10238040"/>
                <a:ext cx="26704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7135560" y="9071280"/>
                <a:ext cx="468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8316720" y="9079200"/>
                <a:ext cx="324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135920" y="9079200"/>
                <a:ext cx="11811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959880" y="10839600"/>
                <a:ext cx="1544400" cy="154476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320320" y="10241280"/>
                <a:ext cx="593640" cy="5983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8913960" y="1083924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9082440" y="10241280"/>
                <a:ext cx="387360" cy="614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9469800" y="10855080"/>
                <a:ext cx="0" cy="30495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8940960" y="13912920"/>
                <a:ext cx="528840" cy="9352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140600" y="13706640"/>
                <a:ext cx="11797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8320320" y="12741120"/>
                <a:ext cx="59364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539040" y="12741480"/>
                <a:ext cx="60156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6539040" y="1083924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6539040" y="10233360"/>
                <a:ext cx="596880" cy="606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6024600" y="10241280"/>
                <a:ext cx="387360" cy="568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24600" y="10809360"/>
                <a:ext cx="0" cy="30499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593040" y="14848200"/>
                <a:ext cx="23479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40800" y="13890960"/>
                <a:ext cx="552240" cy="957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50640" y="128588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6760" y="119271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18560" y="119574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580880" y="114364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550640" y="103824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72600" y="94521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0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711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3273120" y="2147760"/>
            <a:ext cx="6300720" cy="5960880"/>
            <a:chOff x="3273120" y="2147760"/>
            <a:chExt cx="6300720" cy="5960880"/>
          </a:xfrm>
        </p:grpSpPr>
        <p:grpSp>
          <p:nvGrpSpPr>
            <p:cNvPr id="724" name=""/>
            <p:cNvGrpSpPr/>
            <p:nvPr/>
          </p:nvGrpSpPr>
          <p:grpSpPr>
            <a:xfrm>
              <a:off x="4646160" y="2171520"/>
              <a:ext cx="3578760" cy="5937120"/>
              <a:chOff x="4646160" y="2171520"/>
              <a:chExt cx="3578760" cy="5937120"/>
            </a:xfrm>
          </p:grpSpPr>
          <p:sp>
            <p:nvSpPr>
              <p:cNvPr id="725" name=""/>
              <p:cNvSpPr/>
              <p:nvPr/>
            </p:nvSpPr>
            <p:spPr>
              <a:xfrm>
                <a:off x="5746680" y="2179440"/>
                <a:ext cx="13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7099200" y="2171520"/>
                <a:ext cx="0" cy="11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99200" y="3333600"/>
                <a:ext cx="67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780320" y="3325680"/>
                <a:ext cx="444600" cy="66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743440" y="2179440"/>
                <a:ext cx="0" cy="11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068800" y="3344760"/>
                <a:ext cx="67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224920" y="3978000"/>
                <a:ext cx="0" cy="311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665840" y="7089120"/>
                <a:ext cx="559080" cy="101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229000" y="8108640"/>
                <a:ext cx="243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646520" y="7067520"/>
                <a:ext cx="582480" cy="10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646520" y="3993840"/>
                <a:ext cx="0" cy="307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4646160" y="3341520"/>
                <a:ext cx="422280" cy="65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02280" y="3414600"/>
                <a:ext cx="26701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5825880" y="2247840"/>
                <a:ext cx="5040" cy="1162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006680" y="2255760"/>
                <a:ext cx="3240" cy="1162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25880" y="2255760"/>
                <a:ext cx="11811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49840" y="4016160"/>
                <a:ext cx="1544760" cy="1544760"/>
              </a:xfrm>
              <a:prstGeom prst="ellipse">
                <a:avLst/>
              </a:prstGeom>
              <a:noFill/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10280" y="3417840"/>
                <a:ext cx="593640" cy="59832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603920" y="4015800"/>
                <a:ext cx="0" cy="1901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>
                <a:off x="7772400" y="3417840"/>
                <a:ext cx="387360" cy="614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8159760" y="4031640"/>
                <a:ext cx="0" cy="30495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630920" y="7089480"/>
                <a:ext cx="528840" cy="935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30920" y="6883200"/>
                <a:ext cx="1179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010280" y="5917680"/>
                <a:ext cx="593640" cy="965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29000" y="5918040"/>
                <a:ext cx="601920" cy="965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5229000" y="4015800"/>
                <a:ext cx="0" cy="1901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229000" y="3409920"/>
                <a:ext cx="596880" cy="60624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4714920" y="3417840"/>
                <a:ext cx="387360" cy="568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4714920" y="3985560"/>
                <a:ext cx="0" cy="30495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283000" y="8024760"/>
                <a:ext cx="23479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30760" y="7067520"/>
                <a:ext cx="552240" cy="95724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240600" y="60354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86720" y="5103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808520" y="51336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270840" y="46130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40600" y="35589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62920" y="2628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067360" y="3341520"/>
              <a:ext cx="2604960" cy="476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5227560" y="3325680"/>
              <a:ext cx="2544840" cy="478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3273120" y="2160360"/>
              <a:ext cx="3578400" cy="5937120"/>
              <a:chOff x="3273120" y="2160360"/>
              <a:chExt cx="3578400" cy="5937120"/>
            </a:xfrm>
          </p:grpSpPr>
          <p:sp>
            <p:nvSpPr>
              <p:cNvPr id="765" name=""/>
              <p:cNvSpPr/>
              <p:nvPr/>
            </p:nvSpPr>
            <p:spPr>
              <a:xfrm>
                <a:off x="4373640" y="2168280"/>
                <a:ext cx="13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5726160" y="216036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26160" y="332244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407280" y="3314520"/>
                <a:ext cx="44424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4370400" y="216828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95760" y="333360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851520" y="3966840"/>
                <a:ext cx="0" cy="311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6292800" y="7077960"/>
                <a:ext cx="558720" cy="10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855960" y="8097480"/>
                <a:ext cx="24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273480" y="7056360"/>
                <a:ext cx="582480" cy="10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273480" y="3982680"/>
                <a:ext cx="0" cy="307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3273120" y="3330360"/>
                <a:ext cx="422280" cy="6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28880" y="3403440"/>
                <a:ext cx="26704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4452480" y="2236680"/>
                <a:ext cx="468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5633640" y="2244600"/>
                <a:ext cx="324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452840" y="2244600"/>
                <a:ext cx="11811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276800" y="4005000"/>
                <a:ext cx="1544400" cy="154476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37240" y="3406680"/>
                <a:ext cx="593640" cy="5983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6230880" y="400464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 flipV="1">
                <a:off x="6399360" y="3406680"/>
                <a:ext cx="387360" cy="614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6786720" y="4020480"/>
                <a:ext cx="0" cy="30495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6257880" y="7078320"/>
                <a:ext cx="528840" cy="9352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457520" y="6872040"/>
                <a:ext cx="11797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5637240" y="5906520"/>
                <a:ext cx="59364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855960" y="5906880"/>
                <a:ext cx="60156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3855960" y="400464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3855960" y="3398760"/>
                <a:ext cx="596880" cy="606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3341520" y="3406680"/>
                <a:ext cx="387360" cy="568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3341520" y="3974760"/>
                <a:ext cx="0" cy="30499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909960" y="8013600"/>
                <a:ext cx="23479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357720" y="7056360"/>
                <a:ext cx="552240" cy="957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67560" y="60242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313680" y="50925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435480" y="5122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97800" y="46018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67560" y="3547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89520" y="26175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995440" y="2147760"/>
              <a:ext cx="3578400" cy="5937120"/>
              <a:chOff x="5995440" y="2147760"/>
              <a:chExt cx="3578400" cy="5937120"/>
            </a:xfrm>
          </p:grpSpPr>
          <p:sp>
            <p:nvSpPr>
              <p:cNvPr id="803" name=""/>
              <p:cNvSpPr/>
              <p:nvPr/>
            </p:nvSpPr>
            <p:spPr>
              <a:xfrm>
                <a:off x="7095960" y="2155680"/>
                <a:ext cx="13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8448480" y="214776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48480" y="330984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129600" y="3301920"/>
                <a:ext cx="44424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7092720" y="215568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418080" y="332100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9573840" y="3954240"/>
                <a:ext cx="0" cy="311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9015120" y="7065360"/>
                <a:ext cx="558720" cy="10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578280" y="8084880"/>
                <a:ext cx="24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995800" y="7043760"/>
                <a:ext cx="582480" cy="10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995800" y="3970080"/>
                <a:ext cx="0" cy="307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5995440" y="3317760"/>
                <a:ext cx="422280" cy="6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51200" y="3390840"/>
                <a:ext cx="26704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174800" y="2224080"/>
                <a:ext cx="468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8355960" y="2232000"/>
                <a:ext cx="324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175160" y="2232000"/>
                <a:ext cx="11811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99120" y="3992400"/>
                <a:ext cx="1544400" cy="154476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359560" y="3394080"/>
                <a:ext cx="593640" cy="5983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8953200" y="399204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flipV="1">
                <a:off x="9121680" y="3394080"/>
                <a:ext cx="387360" cy="614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9509040" y="4007880"/>
                <a:ext cx="0" cy="30495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8980200" y="7065720"/>
                <a:ext cx="528840" cy="9352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79840" y="6859440"/>
                <a:ext cx="11797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8359560" y="5893920"/>
                <a:ext cx="59364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578280" y="5894280"/>
                <a:ext cx="60156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6578280" y="399204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578280" y="3386160"/>
                <a:ext cx="596880" cy="606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6063840" y="3394080"/>
                <a:ext cx="387360" cy="568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6063840" y="3962160"/>
                <a:ext cx="0" cy="30499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32280" y="8001000"/>
                <a:ext cx="23479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080040" y="7043760"/>
                <a:ext cx="552240" cy="957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589880" y="60116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9036000" y="50799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57800" y="5110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0120" y="4589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89880" y="3535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11840" y="26049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"/>
          <p:cNvGrpSpPr/>
          <p:nvPr/>
        </p:nvGrpSpPr>
        <p:grpSpPr>
          <a:xfrm>
            <a:off x="507600" y="9077400"/>
            <a:ext cx="6300720" cy="5960880"/>
            <a:chOff x="507600" y="9077400"/>
            <a:chExt cx="6300720" cy="5960880"/>
          </a:xfrm>
        </p:grpSpPr>
        <p:grpSp>
          <p:nvGrpSpPr>
            <p:cNvPr id="841" name=""/>
            <p:cNvGrpSpPr/>
            <p:nvPr/>
          </p:nvGrpSpPr>
          <p:grpSpPr>
            <a:xfrm>
              <a:off x="1880640" y="9101160"/>
              <a:ext cx="3578760" cy="5937120"/>
              <a:chOff x="1880640" y="9101160"/>
              <a:chExt cx="3578760" cy="5937120"/>
            </a:xfrm>
          </p:grpSpPr>
          <p:sp>
            <p:nvSpPr>
              <p:cNvPr id="842" name=""/>
              <p:cNvSpPr/>
              <p:nvPr/>
            </p:nvSpPr>
            <p:spPr>
              <a:xfrm>
                <a:off x="2981160" y="9109080"/>
                <a:ext cx="134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4333680" y="9101160"/>
                <a:ext cx="0" cy="11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33680" y="10263240"/>
                <a:ext cx="67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14800" y="10255320"/>
                <a:ext cx="444600" cy="66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2977920" y="9109080"/>
                <a:ext cx="0" cy="11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03280" y="10274400"/>
                <a:ext cx="673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459400" y="10907640"/>
                <a:ext cx="0" cy="3111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4900320" y="14018760"/>
                <a:ext cx="559080" cy="1019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63480" y="15038280"/>
                <a:ext cx="243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881000" y="13997160"/>
                <a:ext cx="582480" cy="104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881000" y="10923480"/>
                <a:ext cx="0" cy="307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1880640" y="10271160"/>
                <a:ext cx="422280" cy="65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36760" y="10344240"/>
                <a:ext cx="26701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060360" y="9177480"/>
                <a:ext cx="5040" cy="1162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4241160" y="9185400"/>
                <a:ext cx="3240" cy="1162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060360" y="9185400"/>
                <a:ext cx="11811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884320" y="10945800"/>
                <a:ext cx="1544760" cy="1544760"/>
              </a:xfrm>
              <a:prstGeom prst="ellipse">
                <a:avLst/>
              </a:prstGeom>
              <a:noFill/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244760" y="10347480"/>
                <a:ext cx="593640" cy="59832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4838400" y="10945440"/>
                <a:ext cx="0" cy="1901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 flipV="1">
                <a:off x="5006880" y="10347480"/>
                <a:ext cx="387360" cy="614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5394240" y="10961280"/>
                <a:ext cx="0" cy="30495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4865400" y="14019120"/>
                <a:ext cx="528840" cy="9352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65400" y="13812840"/>
                <a:ext cx="117936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4244760" y="12847320"/>
                <a:ext cx="593640" cy="965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463480" y="12847680"/>
                <a:ext cx="601920" cy="9651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2463480" y="10945440"/>
                <a:ext cx="0" cy="19018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2463480" y="10339560"/>
                <a:ext cx="596880" cy="60624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1949400" y="10347480"/>
                <a:ext cx="387360" cy="56808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1949400" y="10915200"/>
                <a:ext cx="0" cy="304956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517480" y="14954400"/>
                <a:ext cx="2347920" cy="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965240" y="13997160"/>
                <a:ext cx="552240" cy="957240"/>
              </a:xfrm>
              <a:prstGeom prst="line">
                <a:avLst/>
              </a:prstGeom>
              <a:ln w="3816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475080" y="129650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921200" y="120333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043000" y="120632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505320" y="115426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475080" y="104886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97400" y="95583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2301840" y="10271160"/>
              <a:ext cx="2604960" cy="476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462040" y="10255320"/>
              <a:ext cx="2544840" cy="478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507600" y="9090000"/>
              <a:ext cx="3578400" cy="5937120"/>
              <a:chOff x="507600" y="9090000"/>
              <a:chExt cx="3578400" cy="5937120"/>
            </a:xfrm>
          </p:grpSpPr>
          <p:sp>
            <p:nvSpPr>
              <p:cNvPr id="882" name=""/>
              <p:cNvSpPr/>
              <p:nvPr/>
            </p:nvSpPr>
            <p:spPr>
              <a:xfrm>
                <a:off x="1608120" y="9097920"/>
                <a:ext cx="13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960640" y="909000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960640" y="1025208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41760" y="10244160"/>
                <a:ext cx="44424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1604880" y="909792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930240" y="1026324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86000" y="10896480"/>
                <a:ext cx="0" cy="311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3527280" y="14007600"/>
                <a:ext cx="558720" cy="10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090440" y="15027120"/>
                <a:ext cx="24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7960" y="13986000"/>
                <a:ext cx="582480" cy="10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07960" y="10912320"/>
                <a:ext cx="0" cy="307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507600" y="10260000"/>
                <a:ext cx="422280" cy="6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63360" y="10333080"/>
                <a:ext cx="26704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1686960" y="9166320"/>
                <a:ext cx="468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868120" y="9174240"/>
                <a:ext cx="324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687320" y="9174240"/>
                <a:ext cx="11811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511280" y="10934640"/>
                <a:ext cx="1544400" cy="154476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871720" y="10336320"/>
                <a:ext cx="593640" cy="5983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3465360" y="1093428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flipV="1">
                <a:off x="3633840" y="10336320"/>
                <a:ext cx="387360" cy="614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4021200" y="10950120"/>
                <a:ext cx="0" cy="30495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92360" y="14007960"/>
                <a:ext cx="528840" cy="9352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692000" y="13801680"/>
                <a:ext cx="11797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2871720" y="12836160"/>
                <a:ext cx="59364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090440" y="12836520"/>
                <a:ext cx="60156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1090440" y="1093428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090440" y="10328400"/>
                <a:ext cx="596880" cy="606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576000" y="10336320"/>
                <a:ext cx="387360" cy="568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576000" y="10904400"/>
                <a:ext cx="0" cy="30499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144440" y="14943240"/>
                <a:ext cx="23479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92200" y="13986000"/>
                <a:ext cx="552240" cy="957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102040" y="129538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48160" y="12022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69960" y="120524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132280" y="115315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102040" y="104774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124000" y="9547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3229920" y="9077400"/>
              <a:ext cx="3578400" cy="5937120"/>
              <a:chOff x="3229920" y="9077400"/>
              <a:chExt cx="3578400" cy="5937120"/>
            </a:xfrm>
          </p:grpSpPr>
          <p:sp>
            <p:nvSpPr>
              <p:cNvPr id="920" name=""/>
              <p:cNvSpPr/>
              <p:nvPr/>
            </p:nvSpPr>
            <p:spPr>
              <a:xfrm>
                <a:off x="4330440" y="9085320"/>
                <a:ext cx="13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5682960" y="907740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82960" y="1023948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364080" y="10231560"/>
                <a:ext cx="444240" cy="66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4327200" y="9085320"/>
                <a:ext cx="0" cy="11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52560" y="10250640"/>
                <a:ext cx="67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808320" y="10883880"/>
                <a:ext cx="0" cy="311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6249600" y="13995000"/>
                <a:ext cx="558720" cy="10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12760" y="15014520"/>
                <a:ext cx="24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30280" y="13973400"/>
                <a:ext cx="582480" cy="10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230280" y="10899720"/>
                <a:ext cx="0" cy="307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229920" y="10247400"/>
                <a:ext cx="422280" cy="6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685680" y="10320480"/>
                <a:ext cx="267048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4409280" y="9153720"/>
                <a:ext cx="468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5590440" y="9161640"/>
                <a:ext cx="3240" cy="1162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409640" y="9161640"/>
                <a:ext cx="11811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33600" y="10922040"/>
                <a:ext cx="1544400" cy="1544760"/>
              </a:xfrm>
              <a:prstGeom prst="ellipse">
                <a:avLst/>
              </a:prstGeom>
              <a:noFill/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594040" y="10323720"/>
                <a:ext cx="593640" cy="5983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187680" y="1092168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flipV="1">
                <a:off x="6356160" y="10323720"/>
                <a:ext cx="387360" cy="614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6743520" y="10937520"/>
                <a:ext cx="0" cy="30495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6214680" y="13995360"/>
                <a:ext cx="528840" cy="9352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414320" y="13789080"/>
                <a:ext cx="11797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5594040" y="12823560"/>
                <a:ext cx="59364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812760" y="12823920"/>
                <a:ext cx="601560" cy="965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3812760" y="10921680"/>
                <a:ext cx="0" cy="19018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3812760" y="10315800"/>
                <a:ext cx="596880" cy="606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3298320" y="10323720"/>
                <a:ext cx="387360" cy="56808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3298320" y="10891800"/>
                <a:ext cx="0" cy="304992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66760" y="14930640"/>
                <a:ext cx="234792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14520" y="13973400"/>
                <a:ext cx="552240" cy="9572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824360" y="129412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70480" y="120096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392280" y="120398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854600" y="115189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824360" y="104648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46320" y="95346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-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7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958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BD06990_" descr=""/>
          <p:cNvPicPr/>
          <p:nvPr/>
        </p:nvPicPr>
        <p:blipFill>
          <a:blip r:embed="rId1"/>
          <a:stretch/>
        </p:blipFill>
        <p:spPr>
          <a:xfrm>
            <a:off x="1428840" y="1676520"/>
            <a:ext cx="7388280" cy="6271920"/>
          </a:xfrm>
          <a:prstGeom prst="rect">
            <a:avLst/>
          </a:prstGeom>
          <a:ln w="0">
            <a:noFill/>
          </a:ln>
        </p:spPr>
      </p:pic>
      <p:pic>
        <p:nvPicPr>
          <p:cNvPr id="971" name="BD06990_" descr=""/>
          <p:cNvPicPr/>
          <p:nvPr/>
        </p:nvPicPr>
        <p:blipFill>
          <a:blip r:embed="rId2"/>
          <a:stretch/>
        </p:blipFill>
        <p:spPr>
          <a:xfrm>
            <a:off x="1495440" y="8844120"/>
            <a:ext cx="7388280" cy="6271920"/>
          </a:xfrm>
          <a:prstGeom prst="rect">
            <a:avLst/>
          </a:prstGeom>
          <a:ln w="0">
            <a:noFill/>
          </a:ln>
        </p:spPr>
      </p:pic>
      <p:grpSp>
        <p:nvGrpSpPr>
          <p:cNvPr id="972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973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653760" y="2371680"/>
            <a:ext cx="3578400" cy="5937120"/>
            <a:chOff x="653760" y="2371680"/>
            <a:chExt cx="3578400" cy="5937120"/>
          </a:xfrm>
        </p:grpSpPr>
        <p:sp>
          <p:nvSpPr>
            <p:cNvPr id="986" name=""/>
            <p:cNvSpPr/>
            <p:nvPr/>
          </p:nvSpPr>
          <p:spPr>
            <a:xfrm>
              <a:off x="1754280" y="237960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106800" y="2371680"/>
              <a:ext cx="0" cy="11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06800" y="353376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87920" y="3525840"/>
              <a:ext cx="444240" cy="66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1751040" y="2379600"/>
              <a:ext cx="0" cy="11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076400" y="354492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32160" y="417816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3673440" y="7289280"/>
              <a:ext cx="55872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236600" y="8308800"/>
              <a:ext cx="243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4120" y="7267680"/>
              <a:ext cx="582480" cy="10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4120" y="4194000"/>
              <a:ext cx="0" cy="307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653760" y="3541680"/>
              <a:ext cx="422280" cy="6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109520" y="3614760"/>
              <a:ext cx="267048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1833120" y="2448000"/>
              <a:ext cx="468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3014280" y="2455920"/>
              <a:ext cx="324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833480" y="2455920"/>
              <a:ext cx="1181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57440" y="4216320"/>
              <a:ext cx="1544400" cy="154476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17880" y="3618000"/>
              <a:ext cx="593640" cy="5983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3611520" y="4215960"/>
              <a:ext cx="0" cy="19018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3780000" y="3618000"/>
              <a:ext cx="387360" cy="6141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4167360" y="423180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3638520" y="7289640"/>
              <a:ext cx="528840" cy="9352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838160" y="7083360"/>
              <a:ext cx="11797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3017880" y="6117840"/>
              <a:ext cx="593640" cy="9651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36600" y="6118200"/>
              <a:ext cx="601560" cy="9651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236600" y="4215960"/>
              <a:ext cx="0" cy="19018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1236600" y="3610080"/>
              <a:ext cx="596880" cy="606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722160" y="3618000"/>
              <a:ext cx="387360" cy="568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722160" y="4186080"/>
              <a:ext cx="0" cy="3049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90600" y="8224920"/>
              <a:ext cx="23479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38360" y="7267680"/>
              <a:ext cx="552240" cy="957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248200" y="6235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694320" y="5303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6120" y="5334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278440" y="481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48200" y="3759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70160" y="2828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93920" y="2371320"/>
            <a:ext cx="3578400" cy="5937480"/>
            <a:chOff x="5893920" y="2371320"/>
            <a:chExt cx="3578400" cy="5937480"/>
          </a:xfrm>
        </p:grpSpPr>
        <p:sp>
          <p:nvSpPr>
            <p:cNvPr id="1024" name=""/>
            <p:cNvSpPr/>
            <p:nvPr/>
          </p:nvSpPr>
          <p:spPr>
            <a:xfrm>
              <a:off x="6994440" y="237960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8346960" y="237132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346960" y="35334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027720" y="3525480"/>
              <a:ext cx="44460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6991200" y="237924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316560" y="354456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472320" y="417816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8913600" y="7289280"/>
              <a:ext cx="55872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76760" y="8308800"/>
              <a:ext cx="243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94280" y="7267320"/>
              <a:ext cx="58248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94280" y="4194000"/>
              <a:ext cx="0" cy="30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893920" y="3541320"/>
              <a:ext cx="422280" cy="6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49680" y="3614400"/>
              <a:ext cx="26701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7073280" y="2447640"/>
              <a:ext cx="468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8254440" y="2455560"/>
              <a:ext cx="324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073640" y="2455560"/>
              <a:ext cx="1181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897600" y="4216320"/>
              <a:ext cx="1544400" cy="15444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58040" y="3617640"/>
              <a:ext cx="593640" cy="5986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8851680" y="421632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9019800" y="3617280"/>
              <a:ext cx="387360" cy="614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9407160" y="423180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8878680" y="7289280"/>
              <a:ext cx="528480" cy="934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078320" y="7083360"/>
              <a:ext cx="11797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258040" y="6117840"/>
              <a:ext cx="59364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76760" y="6117840"/>
              <a:ext cx="60156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6476760" y="421632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6476760" y="3609360"/>
              <a:ext cx="596880" cy="60660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5962320" y="3617280"/>
              <a:ext cx="387360" cy="5684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5962320" y="418572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530760" y="8224560"/>
              <a:ext cx="23479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78160" y="7267320"/>
              <a:ext cx="552600" cy="957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488360" y="6235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934480" y="53035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56280" y="53337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518240" y="481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88360" y="3759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510320" y="28288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61960" y="8980200"/>
            <a:ext cx="3578400" cy="5937480"/>
            <a:chOff x="3261960" y="8980200"/>
            <a:chExt cx="3578400" cy="5937480"/>
          </a:xfrm>
        </p:grpSpPr>
        <p:sp>
          <p:nvSpPr>
            <p:cNvPr id="1062" name=""/>
            <p:cNvSpPr/>
            <p:nvPr/>
          </p:nvSpPr>
          <p:spPr>
            <a:xfrm>
              <a:off x="4362480" y="8988480"/>
              <a:ext cx="13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715000" y="898020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15000" y="10142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95760" y="10134360"/>
              <a:ext cx="444600" cy="66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359240" y="8988120"/>
              <a:ext cx="0" cy="11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684600" y="1015344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840360" y="1078704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281640" y="13898160"/>
              <a:ext cx="55872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844800" y="14917680"/>
              <a:ext cx="243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62320" y="13876200"/>
              <a:ext cx="582480" cy="10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62320" y="10802880"/>
              <a:ext cx="0" cy="30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3261960" y="10150200"/>
              <a:ext cx="422280" cy="6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17720" y="10223280"/>
              <a:ext cx="26701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4441320" y="9056520"/>
              <a:ext cx="468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5622480" y="9064440"/>
              <a:ext cx="3240" cy="11620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441680" y="9064440"/>
              <a:ext cx="118116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65640" y="10825200"/>
              <a:ext cx="1544400" cy="1544400"/>
            </a:xfrm>
            <a:prstGeom prst="ellipse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626080" y="10226520"/>
              <a:ext cx="593640" cy="59868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6219720" y="1082520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 flipV="1">
              <a:off x="6387840" y="10226160"/>
              <a:ext cx="387360" cy="614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775200" y="1084068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6246720" y="13898160"/>
              <a:ext cx="528480" cy="9349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446360" y="13692240"/>
              <a:ext cx="11797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626080" y="12726720"/>
              <a:ext cx="59364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44800" y="12726720"/>
              <a:ext cx="601560" cy="965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844800" y="10825200"/>
              <a:ext cx="0" cy="190152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844800" y="10218240"/>
              <a:ext cx="596880" cy="60660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330360" y="10226160"/>
              <a:ext cx="387360" cy="5684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3330360" y="10794600"/>
              <a:ext cx="0" cy="304956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898800" y="14833440"/>
              <a:ext cx="2347920" cy="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46200" y="13876200"/>
              <a:ext cx="552600" cy="957240"/>
            </a:xfrm>
            <a:prstGeom prst="line">
              <a:avLst/>
            </a:prstGeom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56400" y="128444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302520" y="119124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24320" y="119426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886280" y="114220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856400" y="10368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878360" y="94377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-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395280" y="325440"/>
            <a:ext cx="9050400" cy="428400"/>
            <a:chOff x="395280" y="325440"/>
            <a:chExt cx="9050400" cy="428400"/>
          </a:xfrm>
        </p:grpSpPr>
        <p:sp>
          <p:nvSpPr>
            <p:cNvPr id="1100" name=""/>
            <p:cNvSpPr/>
            <p:nvPr/>
          </p:nvSpPr>
          <p:spPr>
            <a:xfrm>
              <a:off x="39528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li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5280" y="325440"/>
              <a:ext cx="90504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86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86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65600" y="401400"/>
              <a:ext cx="85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ist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213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1016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27440" y="415800"/>
              <a:ext cx="60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3340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68512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49920" y="401400"/>
              <a:ext cx="10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m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753240" y="32544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04:33:07Z</dcterms:created>
  <dc:creator>alexandre.tremblot</dc:creator>
  <dc:description/>
  <dc:language>en-US</dc:language>
  <cp:lastModifiedBy>alexandre.tremblot</cp:lastModifiedBy>
  <dcterms:modified xsi:type="dcterms:W3CDTF">2003-07-30T22:58:15Z</dcterms:modified>
  <cp:revision>23</cp:revision>
  <dc:subject/>
  <dc:title>PowerPoint Presentation</dc:title>
</cp:coreProperties>
</file>